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AE51-0B53-482E-B10C-FC861CB9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611-33E4-4D8F-A8E5-9D1DAFC8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D13-DFE5-4397-91E2-2A0F27B8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992-586F-4288-AAF0-D15869F1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A72F-D6C0-4EDA-A6F6-4BEECEDD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0D0-CA79-4FC8-902E-7E667D66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6C39-C89F-4A3F-94E5-F7770284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7D7-D3BB-4E2A-AEEC-AC100492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52D-B476-470E-9767-E0E87567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112-92C2-4340-8E99-532423C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2B4-2334-4D0D-8977-89593B20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888-31AE-426B-943B-D64F55BF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14B6-CBA6-45CB-B0DF-18CF100FF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4920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with a Point and a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 grou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ree equations in slope-intercept form, the students will graph the lines using a T-chart. Then they will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lope of the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slope found in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the line cross the y-ax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y-value of the point when x=0? (This is the y-intercep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the y-value found in the eq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you think this form of the equation is called the “slope-intercep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4240" y="34920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with a Point and a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ruggling Learn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th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-2,-3), (1,1), and (3,5), the students will plot the points and sketch the line. Then they will answer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lope of the 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line cross the y-ax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equation of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udents working on this particular task should repeat this process given two or three more points and/or a point and a slope. They will then create an explanation for how to graph a line starting with the equation and without finding any points using a T-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4240" y="34920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with a Point and a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55760"/>
            <a:ext cx="77724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de-Level Learn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equation of a line in slope-intercept form (or several equations), the students in this group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lope in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y-intercept in the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y-intercept in coordinate form (0,y) and plot the point on the y-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lope to find two additional points that will be on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students have completed the above tasks, they will summarize a way to graph a line from an equation without using a T-char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3320" y="147600"/>
            <a:ext cx="777240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phing with a Point and a Sl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79200"/>
            <a:ext cx="777240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vanced Lear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iven the slope-intercept form of the equation of a line, y=mx+b, the students will answer the following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ope of the line is represented by which vari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intercept is the point where the graph crosses the y-axis. What is the x-coordinate of the y-intercept? Why will this always be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y-coordinate of the y-intercept is represented by which variable in the slope-intercept fo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 the students in this group will complete the following tasks given equations in slope-intercept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lope and the y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he y-inter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lope to count rise and run in order to find the second and third p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the 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5:43:39Z</dcterms:created>
  <dc:creator>CABELL BOE</dc:creator>
  <dc:description/>
  <dc:language>en-US</dc:language>
  <cp:lastModifiedBy>CABELL BOE</cp:lastModifiedBy>
  <dcterms:modified xsi:type="dcterms:W3CDTF">2009-06-01T15:43:41Z</dcterms:modified>
  <cp:revision>1</cp:revision>
  <dc:subject/>
  <dc:title>Graphing with a Point and a Slope</dc:title>
</cp:coreProperties>
</file>